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381-EAF3-4D78-88ED-60D377C9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459-B030-4C27-99EE-51D989D0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C0D-5996-46A4-995B-A6784D9C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FC5-DCCF-430E-8804-FDB71A53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C5E-9DC9-4A62-AD61-9A7D3CEB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1A1-1B20-47F9-B206-8BC5C288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C82-2DFE-4F73-8EE9-AAF2557E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2A3-1B95-40E7-ADBA-3FA23CD4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72F-8C16-4121-8231-DB2B6C8C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9E9-980C-40FE-B5B1-9812BFC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BE9-3AC0-486C-A249-6B7E0F5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EB3-1ABA-47B1-9B8C-72CE1CA5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1BA0-F94E-4A4C-9227-C8849C750D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83944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.Many people who saw the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ilm were </a:t>
            </a:r>
            <a:r>
              <a:rPr b="1" i="1" lang="zh-CN" sz="2400" spc="-1" strike="noStrike">
                <a:solidFill>
                  <a:srgbClr val="fc3000"/>
                </a:solidFill>
                <a:latin typeface="Times New Roman"/>
              </a:rPr>
              <a:t>afrai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to swim in the se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rai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用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sb/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to do sth/of doing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doing sth  /  be afraid +tha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m afra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41911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1. He seldom stands on the river bank because he is afraid that he might fall into th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2. I’m afraid I can’t agree with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21:12Z</dcterms:created>
  <dc:creator>user</dc:creator>
  <dc:description/>
  <dc:language>en-US</dc:language>
  <cp:lastModifiedBy>user</cp:lastModifiedBy>
  <dcterms:modified xsi:type="dcterms:W3CDTF">2003-09-18T02:21:28Z</dcterms:modified>
  <cp:revision>1</cp:revision>
  <dc:subject/>
  <dc:title>PowerPoint 演示文稿</dc:title>
</cp:coreProperties>
</file>